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29FC-3191-43F7-BBE4-7D2F38FE7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2A71-1128-4E60-A988-A707F20E8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4E96-5A7C-4DF9-800D-814B3A67D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468F-6C63-47AE-B71C-CA568669E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B6BFB-9EE8-4F77-A4F2-F20083BA5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C3912-23E1-46A6-9795-C8BFFE4CA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54E22-5E14-4DED-9654-5CDFBA843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E0630-A83E-4B38-BBF7-2E206C34B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0C7BF-F5F1-4DC8-BD45-2F3D12D15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36130-F70D-447E-B04C-11B804617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9BB8D-6E4D-4C3A-95F7-6C27B2FA5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78E5-E759-4919-8961-30F4B4A75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84E18-7AC1-4B7E-A33A-2A69A24C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486B3-D6BB-421D-B3C3-A0A96D0E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D7F6A-9FB7-4806-A6E7-54D929D27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469A2-09ED-48B5-AA74-DC5FA4246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3AE5E-C21D-4498-B1C1-CECFBD919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ADAD-F890-4B17-839C-F4240E9A4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FC87-8945-43C8-BF9E-EEF0AAA5E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A5A5-453B-4D70-B575-5D1E78D3E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0497-A757-4D3C-A107-41E37C003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4A9D-68EB-46EC-B3FE-5E164E31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457A-0C45-48A5-B712-07AA32AF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9298-B565-4274-8F78-F0B2C2BC5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4A935-4387-4CA5-A05C-C8FD6EDB24E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3480"/>
              <a:chOff x="635040" y="534600"/>
              <a:chExt cx="8077320" cy="30348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3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724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12D82-ECE3-49EA-9E93-953D4F3EEDF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825480" y="1577880"/>
            <a:ext cx="5118120" cy="4959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1 ГОД И ПЛАНОВЫЙ ПЕРИОД 2022-2023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1-01-29T05:53:42Z</dcterms:modified>
  <cp:revision>46</cp:revision>
  <dc:subject/>
  <dc:title>Структура собственных доходов на 2016 год бюджета Дальнереченского городского округа</dc:title>
</cp:coreProperties>
</file>